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6312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0527-DC8E-4783-BF96-130CF4833E06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6480" y="646128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293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35809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trat Local de Santé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  de Magny-en-Vexin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ontrat Local de Santé de Magny-en-Vexin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8920" y="836280"/>
            <a:ext cx="865980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Quelques données chiffré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508 habitants (INSEE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,5% de moins de 2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,9% des hommes et 6,8% des femmes de 80 ans et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érance de vie  à la naissance inférieure de 5 à 6 ans à celle du Val d’Oi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% d’employés et d’ouvriers et 15% de ca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%  des personnes de 15 ans et + sans diplôme en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chômage de 12% +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,1% de bénéficiaires de la Couverture Maladie Universelle complémentaire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,7% de foyers fiscaux non impo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% des revenus entre 8 469 € et 35 027 €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,7% de la population et 19,1% des enfants &lt; 17 ans dans foyer à bas revenus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eur de Développement Humain (IDH2): 0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" dur="5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500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ontrat Local de Santé de Magny-en-Vexin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812440" cy="46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s points fort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hait d’impulser une dynamique san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nnes densités de médecins généralistes et de chirurgiens dentis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us les généralistes en secteu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hôpital sur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Mai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ostic socio-sanitaire à établ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té de spécialistes de  premier recours inférieure à celle du dépar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,3 % de l’ensemble des résidences principales relevant du Parc Priv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ellement Ind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7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2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7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2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7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02920" y="228600"/>
            <a:ext cx="7054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ontrat Local de Santé de Magny-en-Vexin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981000"/>
            <a:ext cx="86104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mier axe stratégique 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’amélioration de la connaissance de l’état socio-sanitaire de la population par l’élaboration d’un diagnost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ARS contribue par une aide financière de 25000 eu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axe stratégique 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a réduction des inégalités sociales de santé en lien avec l’environn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Jean-Marc.PAGANI</cp:lastModifiedBy>
  <cp:lastPrinted>2011-11-02T16:07:34Z</cp:lastPrinted>
  <dcterms:modified xsi:type="dcterms:W3CDTF">2011-12-14T10:16:27Z</dcterms:modified>
  <cp:revision>31</cp:revision>
  <dc:subject/>
  <dc:title>ESSA</dc:title>
</cp:coreProperties>
</file>